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4C88-BE81-42E2-86AC-9BBD36CF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A32-78F9-4D30-ACAA-AC1C79F613D1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71B-7749-4C82-9B63-333014527D8F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01B-F780-40AC-AD31-B20A3398846A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4D6-33AB-4700-AD30-3D9DCE77D4E8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4700-8495-43FE-B851-99589C798411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9EE1-0407-4414-BFC0-34D4A8A4ECDA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129A-CCC1-4DB7-82E4-0990E4ABC9AD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26AE-DB8E-41FB-B6AC-A9F5D130E1CF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E031-C670-4668-B3EE-9E745696329A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4F12-157C-4A78-BC0C-681AE994CBEC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F398-DDF9-4E48-9DBA-CE9F0831DC1E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BF0-B472-4A13-BA7A-F061CECF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AFD-21D4-4304-8557-8B1C64FC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AF5-983C-4945-BFF9-3C0491FA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388-29C8-4BD2-A9C9-7D118D2C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CDED-E802-4822-AC21-FBFA56CA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A51-F84E-48FE-A392-C8C8846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90AC-185B-422A-9363-12D8F72D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648-3262-4095-B198-15D9586D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732E-0C25-4FD8-B67D-9B973B2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7F98-20DC-4808-877D-1B821751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92A6-35CB-4408-8E56-BCD8420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E74-5BF4-4808-A1BB-23C14FB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ADB-27D5-428C-B1C9-B80C7C15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2A76-24EC-4917-9096-41FBC94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E8F3-A581-4B74-B5CE-E368C15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9741-1910-48A4-8852-EF820451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1B50-7DF8-47E7-85A7-6E651098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77E-EEDA-40FB-BE16-41079BE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1D9-65EE-49D4-8F7C-8D26F39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5A0-2643-49B7-BA25-01A2F361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D40-DB33-40E9-A72B-E9D77522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50E-5FD3-40CC-A59C-8AC1790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0CA-6987-4D2D-99F9-CD128FD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2D1-0055-4E42-9B6C-44CFF2D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8672-9366-4DC5-A3A4-615A09C1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9E48-7F9A-4F6C-A826-410ACE42D45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counting Terminology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3720"/>
            <a:ext cx="86774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mounts owed by a company to anoth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iabiliti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st of Sales divided by Average Invento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ventory turnover rat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sts that usually stay the same (Salaries, Rent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ixed costs or expens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O   and LIF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irst in first out; Last in first out (Inventory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 expense that reflects the loss in value of a fixed asse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preci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G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st of Goods Sol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ICT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ethods for analyzing capital investing, Flexibility, Risk, Income, Control, Time, &amp; Oth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ings of value owned by the company that can be converted to cash in one yea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urrent Asse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fits not distributed to shareholders as dividends, the accumulation of a company's profits less dividen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tained Revenu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amounts received by or due a company for goods or services it provides to customers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venue or sal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oney spent making a produ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st that changes as sales or production change. If a business is producing nothing and selling nothing, this should be zero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ariable co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chronological accounting record of an entity’s transaction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ourna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measure of how easily a company can turn their assets into cash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profit earned before taxes are deducted and interest is calculated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B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inancial statement that shows a company’s stated value at a specific point in tim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ccounting system that records a business event as it happens, regardless of whether it affects cash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crual Accounting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measure of how easily a company can turn their assets into cash (Ratio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urrent Rat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market price of a share of stock divided by the earnings (profit) per shar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ice/Earnings ratio  (p/e ratio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ist of all accounts and their account numbers in the ledge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rt of Accou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most basic form of equity security in a corporation, giving the owner certain righ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mmon Stoc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orm of equity (stock) that that may carry certain preferences agreed upon with the own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eferred Stoc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ratio calculated by dividing accounts receivable by total annual credit sales and multiplying the result by 365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S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ross profit divided by net sa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ross Margi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t income divide by total equ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O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725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value of an investment after a specific period of time at a certain rate of interes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uture Valu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difference between a firms stated assets and stated liabilitie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ook Valu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sales volume necessary for a firm to begin generating profi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eak even poin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name given to the set of ratios often used in assessing the company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upont Ratio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t profit divided by equ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OE   ROI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concept that compares the value of money available in the future to the value of cash in hand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esent valu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9:18:28Z</dcterms:created>
  <dc:creator>User</dc:creator>
  <dc:description/>
  <dc:language>en-US</dc:language>
  <cp:lastModifiedBy>User</cp:lastModifiedBy>
  <dcterms:modified xsi:type="dcterms:W3CDTF">2009-01-27T14:13:01Z</dcterms:modified>
  <cp:revision>4</cp:revision>
  <dc:subject/>
  <dc:title>Accounting Terminolog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